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51A71-DA53-4E39-8CE8-8C5ED8AE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7094F-7AA4-4A70-B4CE-0FCD0569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76958-0881-4B49-AA96-2E096CC0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CBEE1-F129-46CA-8CEA-8851B330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591E-9CAA-45B5-8523-6892D1A6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1FEF-CE01-4C45-A05D-AB041A26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AAA4-01D7-4FDD-B7E3-B6D2727E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D2F4-E8F6-4A7E-8ACF-294E908F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2D63-81C3-4E02-8402-85BEB623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F8B1-E9A6-4467-9BA6-3392C251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E899-81AC-48EB-ACD3-22B17D06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EDCC8-C289-4456-AC95-5BACD3AA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6C31-51FD-4C33-AC9D-6195BF25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D1A5-EB90-46EA-9F91-9A3C2259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1606-071E-46D3-BF06-C8D35B77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5713-F44E-42EF-BA1B-89F09695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E4A6-E6CD-4604-83C6-C93F2DA0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4CC15-1CA8-482B-B9E4-611EFAF4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E5087-97CA-454A-AB3D-F2121965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4D3A8-0ADE-434E-9614-C1098C25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5E969-3B92-4F8F-A1ED-1D3572E9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E19A9-D146-49B7-A748-3062A7AC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D7DD7-F7E3-4AD2-8841-6A745C5A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E06ED-7F39-4883-9A45-46084629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F709-A2ED-4856-8C66-77F22BA372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EFEA-28B1-4C65-B0AB-B8C6040D49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ll Cipher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polygraphic cipher was developed by the mathematician Lester Hill in 1929 - called the Hill Ciph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cessive plaintext letters and substitutes for them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phertex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ACDF3-3640-4017-9B9D-410CAD946C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3276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haracter is assigned a numerical val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0, b = 1, . . ., z = 2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 the transformation of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given by 3 equations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80320" y="4700520"/>
            <a:ext cx="364068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42560" y="4664160"/>
            <a:ext cx="3841560" cy="1561680"/>
            <a:chOff x="1942560" y="4664160"/>
            <a:chExt cx="3841560" cy="1561680"/>
          </a:xfrm>
        </p:grpSpPr>
        <p:grpSp>
          <p:nvGrpSpPr>
            <p:cNvPr id="119" name=""/>
            <p:cNvGrpSpPr/>
            <p:nvPr/>
          </p:nvGrpSpPr>
          <p:grpSpPr>
            <a:xfrm>
              <a:off x="3794040" y="4664160"/>
              <a:ext cx="1990080" cy="1561680"/>
              <a:chOff x="3794040" y="4664160"/>
              <a:chExt cx="1990080" cy="1561680"/>
            </a:xfrm>
          </p:grpSpPr>
          <p:sp>
            <p:nvSpPr>
              <p:cNvPr id="120" name=""/>
              <p:cNvSpPr/>
              <p:nvPr/>
            </p:nvSpPr>
            <p:spPr>
              <a:xfrm>
                <a:off x="3794040" y="4721040"/>
                <a:ext cx="40896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584240" y="469260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374800" y="466416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94040" y="5263920"/>
                <a:ext cx="40896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84240" y="523548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74800" y="5207040"/>
                <a:ext cx="409320" cy="40896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794040" y="5816520"/>
                <a:ext cx="40896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584240" y="5788080"/>
                <a:ext cx="409320" cy="40896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74800" y="575928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942560" y="528480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K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63433-367F-4B52-BE0A-6D4F3E3E12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160" y="1636560"/>
            <a:ext cx="774396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ll cipher is really a matrix multiplic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ciphering key is an n x n matrix,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ciphering key is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if n = 3 one possible key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053000" y="4057560"/>
            <a:ext cx="3120120" cy="1074240"/>
            <a:chOff x="1053000" y="4057560"/>
            <a:chExt cx="3120120" cy="1074240"/>
          </a:xfrm>
        </p:grpSpPr>
        <p:sp>
          <p:nvSpPr>
            <p:cNvPr id="133" name=""/>
            <p:cNvSpPr/>
            <p:nvPr/>
          </p:nvSpPr>
          <p:spPr>
            <a:xfrm>
              <a:off x="1706400" y="4214880"/>
              <a:ext cx="246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7  17  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1  18  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   2  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53000" y="4057560"/>
              <a:ext cx="2974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 = 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(       )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978440" y="4073400"/>
            <a:ext cx="3331800" cy="1034640"/>
            <a:chOff x="4978440" y="4073400"/>
            <a:chExt cx="3331800" cy="1034640"/>
          </a:xfrm>
        </p:grpSpPr>
        <p:sp>
          <p:nvSpPr>
            <p:cNvPr id="136" name=""/>
            <p:cNvSpPr/>
            <p:nvPr/>
          </p:nvSpPr>
          <p:spPr>
            <a:xfrm>
              <a:off x="5843520" y="4191120"/>
              <a:ext cx="246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   9  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5  17  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4   0  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78440" y="4073400"/>
              <a:ext cx="3183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(       )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341720" y="547992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   ‘n o 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8520" y="5705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14 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319560" y="5310360"/>
            <a:ext cx="4036320" cy="1458360"/>
            <a:chOff x="3319560" y="5310360"/>
            <a:chExt cx="4036320" cy="1458360"/>
          </a:xfrm>
        </p:grpSpPr>
        <p:sp>
          <p:nvSpPr>
            <p:cNvPr id="141" name=""/>
            <p:cNvSpPr/>
            <p:nvPr/>
          </p:nvSpPr>
          <p:spPr>
            <a:xfrm>
              <a:off x="3319560" y="5334120"/>
              <a:ext cx="2854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3351240" y="5310360"/>
              <a:ext cx="4004640" cy="801720"/>
              <a:chOff x="3351240" y="5310360"/>
              <a:chExt cx="4004640" cy="801720"/>
            </a:xfrm>
          </p:grpSpPr>
          <p:sp>
            <p:nvSpPr>
              <p:cNvPr id="143" name=""/>
              <p:cNvSpPr/>
              <p:nvPr/>
            </p:nvSpPr>
            <p:spPr>
              <a:xfrm>
                <a:off x="4398840" y="5343840"/>
                <a:ext cx="3664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3351240" y="5310360"/>
                <a:ext cx="4004640" cy="801720"/>
                <a:chOff x="3351240" y="5310360"/>
                <a:chExt cx="4004640" cy="801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511080" y="5446800"/>
                  <a:ext cx="91224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17 17  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1 18 2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  2 1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351240" y="5310360"/>
                  <a:ext cx="3664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Arial"/>
                    </a:rPr>
                    <a:t>(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820400" y="5343840"/>
                  <a:ext cx="25354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Arial"/>
                    </a:rPr>
                    <a:t>) = ( )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mod 26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230720" y="5337360"/>
                  <a:ext cx="3664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618440" y="5470560"/>
                  <a:ext cx="36360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836320" y="5451480"/>
                  <a:ext cx="36360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1" name=""/>
          <p:cNvGrpSpPr/>
          <p:nvPr/>
        </p:nvGrpSpPr>
        <p:grpSpPr>
          <a:xfrm>
            <a:off x="5600160" y="6068520"/>
            <a:ext cx="842040" cy="791640"/>
            <a:chOff x="5600160" y="6068520"/>
            <a:chExt cx="842040" cy="791640"/>
          </a:xfrm>
        </p:grpSpPr>
        <p:sp>
          <p:nvSpPr>
            <p:cNvPr id="152" name=""/>
            <p:cNvSpPr/>
            <p:nvPr/>
          </p:nvSpPr>
          <p:spPr>
            <a:xfrm>
              <a:off x="5600160" y="640044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 u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013440" y="6068520"/>
              <a:ext cx="0" cy="49212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1D224-E53A-4C15-9851-C64DF6E351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3520" y="1787400"/>
            <a:ext cx="82296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P will create a Hill cipher for groups of 2 to 6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790720" y="3552840"/>
            <a:ext cx="4735440" cy="3068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381560" y="3583080"/>
            <a:ext cx="1390680" cy="676080"/>
          </a:xfrm>
          <a:prstGeom prst="wedgeRoundRectCallout">
            <a:avLst>
              <a:gd name="adj1" fmla="val -43722"/>
              <a:gd name="adj2" fmla="val 60796"/>
              <a:gd name="adj3" fmla="val 16667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First, enter the group size – which is the same as the matrix 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1160" y="3068640"/>
            <a:ext cx="1390680" cy="676440"/>
          </a:xfrm>
          <a:prstGeom prst="wedgeRoundRectCallout">
            <a:avLst>
              <a:gd name="adj1" fmla="val -43722"/>
              <a:gd name="adj2" fmla="val 60796"/>
              <a:gd name="adj3" fmla="val 16667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CAP will generate a matrix for you or you can load 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E2264-96AD-4A46-BB70-0B68F0D05D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8T02:53:41Z</dcterms:modified>
  <cp:revision>68</cp:revision>
  <dc:subject/>
  <dc:title>CAP Cryptographic Analysis Program</dc:title>
</cp:coreProperties>
</file>